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C33-3BB0-4024-B50E-3690BC8C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228-75D2-44C4-AFF6-46821C9B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EED-43CF-45EA-843B-F5D964D3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C2F-E9C5-4A27-A6BB-8CCAADA0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E3E-64DE-41FC-854B-7617FCD9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E34-2D19-4BE4-881C-E91A632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CED-C7C8-4A8D-99E1-30344A5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3AB-C106-4682-AF62-828237D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01B-358F-4828-81DF-2256D3F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643-6589-484B-A868-1BE20F7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200-9D50-43A9-B1A7-3B0DEB4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36B-EB19-4931-B1BA-1E6B6F6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C6D-D9F6-4419-8A82-942DA801D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americanpatriots.com/files/images/2008-04-dr-martin-luther-king-jr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bymyart.files.wordpress.com/2008/04/martin-luther-king-jr.jpg&amp;imgrefurl=http://bymyart.wordpress.com/2008/04/04/martin-luther-king-salute/&amp;usg=__hA_E-iu8Cb06ZWhkmC5ZFif9Zes=&amp;h=370&amp;w=300&amp;sz=28&amp;hl=en&amp;start=3&amp;tbnid=nQwRC9ucUu8EdM:&amp;tbnh=122&amp;tbnw=99&amp;prev=/images%3Fq%3Dmartin%2Bluther%2Bking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83534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night's News Special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tin Luther King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862440" cy="532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76280"/>
            <a:ext cx="233856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37926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056720" cy="50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787800">
            <a:off x="6877080" y="333000"/>
            <a:ext cx="1941480" cy="145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1073200">
            <a:off x="7308360" y="2205000"/>
            <a:ext cx="1495440" cy="19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1567800">
            <a:off x="7236000" y="4653000"/>
            <a:ext cx="140940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16000" y="5445000"/>
            <a:ext cx="54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ildhood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444840" cy="322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1286200">
            <a:off x="468000" y="404640"/>
            <a:ext cx="4535280" cy="303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261800">
            <a:off x="5435640" y="4220640"/>
            <a:ext cx="2905200" cy="207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73000">
            <a:off x="971280" y="3789000"/>
            <a:ext cx="323352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43280" y="2276640"/>
            <a:ext cx="43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s Boycot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ee full size image"/>
          <p:cNvPicPr/>
          <p:nvPr/>
        </p:nvPicPr>
        <p:blipFill>
          <a:blip r:embed="rId1"/>
          <a:stretch/>
        </p:blipFill>
        <p:spPr>
          <a:xfrm>
            <a:off x="250920" y="1989000"/>
            <a:ext cx="4968720" cy="462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357280" cy="281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260280"/>
            <a:ext cx="63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His Family Suffered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67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89000"/>
            <a:ext cx="648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wards His Deat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14400" cy="25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09760" cy="3936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See full size image"/>
          <p:cNvPicPr/>
          <p:nvPr/>
        </p:nvPicPr>
        <p:blipFill>
          <a:blip r:embed="rId3"/>
          <a:stretch/>
        </p:blipFill>
        <p:spPr>
          <a:xfrm>
            <a:off x="3708360" y="3362400"/>
            <a:ext cx="4176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4:30:45Z</dcterms:created>
  <dc:creator>nb</dc:creator>
  <dc:description/>
  <dc:language>en-US</dc:language>
  <cp:lastModifiedBy>nb</cp:lastModifiedBy>
  <dcterms:modified xsi:type="dcterms:W3CDTF">2009-01-30T14:47:52Z</dcterms:modified>
  <cp:revision>2</cp:revision>
  <dc:subject/>
  <dc:title>Slide 1</dc:title>
</cp:coreProperties>
</file>